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0F6-157F-4C23-92B5-35F152F98CB4}" type="slidenum"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E84-12D1-4836-987B-52CA55C8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6A2-FD99-40AD-A000-6FCABB50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DFF-BA04-494E-AE29-49227D4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AC6-FB0B-43B6-B30F-FC5DF573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BE98-4010-4346-B08C-BD36936B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7009-13D3-4143-A593-FCFA02A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D133-FC46-4E9F-B6B7-509460E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B29A-37B1-4268-8173-757B5DF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4B0-FC26-41F0-B860-B26C29EB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FB8A-4F51-4FB2-BFFC-123F890A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839C-D1B8-4FCB-B0CF-9A9E240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99-036F-469E-B90B-8E695AE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6763-A8CD-48CC-A9EE-ACD955F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E6C-14A7-4CC9-B990-E053D9A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812C-F598-47A3-9BB2-CF5C976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A81-53DD-4C41-8FAD-9E81037B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9BE-2F8A-4064-B118-C5FDA178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EBF-38D7-434F-89E3-14285B6C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355-0C53-463E-920D-375BEDE4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F40-4715-47BE-8838-9B05926E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0EC-78C0-4CD4-A702-CFE028F5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A72-7E1E-462E-864E-61F34F8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9AD-4CF7-4313-9F5B-A573300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381-04D4-445E-9ADC-B55463A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D957-5915-48C9-B1C2-4C1C9562C0B0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2FC-863F-4323-A219-61E3F4A79E39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0016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95280" y="1413000"/>
            <a:ext cx="8280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ECTORAL PRIORITIES IN THE BRČKO DISTRICT OF B&amp;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updated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: O</a:t>
            </a: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ctober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 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08080" y="1773360"/>
            <a:ext cx="8935920" cy="2881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24000" y="4365720"/>
            <a:ext cx="856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ECTOR: CIVIL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DMINISTRATIVE BODY: DEPARTMENT FOR PUBLIC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strengthening the civil protection capacities through procurement of equipment for protection of life and property of citiz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TAL VALUE: BAM 6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68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826920" y="333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684360" y="49068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3800" cy="2657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3964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346536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UT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Construction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and secondary water supply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 Vučilov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1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Detailed hydr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ogical research of the northern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jevica moun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0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3" descr=""/>
          <p:cNvPicPr/>
          <p:nvPr/>
        </p:nvPicPr>
        <p:blipFill>
          <a:blip r:embed="rId1"/>
          <a:stretch/>
        </p:blipFill>
        <p:spPr>
          <a:xfrm>
            <a:off x="284040" y="765000"/>
            <a:ext cx="8529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53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4365720"/>
            <a:ext cx="8353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AGRICULTURE, FORESTRY AND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Regulation of Brka and Zovičica rivers in the urban area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of B&amp;H – phases II, III and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6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0000" y="509760"/>
            <a:ext cx="77328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8680" y="1628640"/>
            <a:ext cx="8815320" cy="2565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414972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PUBLIC ROA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mages caused b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75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24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0:54:30Z</dcterms:created>
  <dc:creator>Silver</dc:creator>
  <dc:description/>
  <dc:language>en-US</dc:language>
  <cp:lastModifiedBy>operater</cp:lastModifiedBy>
  <dcterms:modified xsi:type="dcterms:W3CDTF">2014-10-15T11:05:04Z</dcterms:modified>
  <cp:revision>8</cp:revision>
  <dc:subject/>
  <dc:title>Pregled sektorskih prioriteta  Brčko distrikta BiH Ažurirano Oktobar 2014</dc:title>
</cp:coreProperties>
</file>